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7784-DFEE-45A3-A3CD-096C8F43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9F29-8FE2-447D-84D5-34058FE1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B010-C75B-49F1-B8CC-0166BB1C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936-7D0D-4346-9BC6-25BDDF75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1867-5C27-4EBB-806E-FAB3D200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06EA-CB5E-4BD0-AD6E-0018A58F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AED4-5051-4EA1-B330-79E711D1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9730-E2B1-4B94-8A26-4218D431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5937-CB97-4314-A2E7-3BAF0790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6EA1-608A-4522-91E3-9BD057AE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16E3-E80C-479D-BCA0-AD64AFE2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6E37-C380-4746-B9B9-11C6B1EF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AC69-A194-4A93-9E1F-6C1E26EAB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ок обучения в аспирантуре (г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й руко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значимые публикации в изданиях центральной печати, перечня ВАК ( в т.ч. за рубеж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дрение и использование результатов научных разработок на территории края (акты о внедрении, патенты, лицензирование, коммерциализ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али и дипломы конференций, конк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руководство НИР студентов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стие в инновационных конкурсах и прое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2:54:14Z</dcterms:created>
  <dc:creator>Мухамедзянова</dc:creator>
  <dc:description/>
  <dc:language>en-US</dc:language>
  <cp:lastModifiedBy>Наука</cp:lastModifiedBy>
  <dcterms:modified xsi:type="dcterms:W3CDTF">2009-03-27T07:01:57Z</dcterms:modified>
  <cp:revision>12</cp:revision>
  <dc:subject/>
  <dc:title>О себе (возраст, школа, ВУЗ, специальность)</dc:title>
</cp:coreProperties>
</file>