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9758-EFAC-4513-9AD9-63EDEC42B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01D5-91E5-4C99-A8CA-265F0A59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F368-BA8B-4564-A74C-F6F57E92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4B51-A4EC-4187-8D02-220E6341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5727-520C-42C3-B973-1DB7EF52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DA32-A4A0-46B9-9AA0-FEBE85DC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E167-8EF4-4AD2-BDA0-C8D67393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6F9A-78B8-4859-AA44-041CFB4B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0990-5463-435F-BB45-62E06180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69C4-6B40-4DB8-B221-A50C6691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9878-8D04-4A0A-8A80-F0D560BE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7CCE-9580-4540-80BD-D11B7B16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36A7-1E22-4B29-8E03-81E74654CE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пирантура – специальность – дата защиты кандидатской диссер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ок обучения в докторантуре (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учный консуль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ые научные результаты за последние 3 го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бласти критических технологий и приоритетных направлений фундаментальных исслед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крытия, патент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нографии, учебники, стат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ичие охранных документов на объекты промышленной собственности и объекты авторского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али, премии, дипломы конференций, конкурсов, выставок (в т.ч. в качестве научного руководит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подготовка аспирантов, кандидатов наук за последние 5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совершенствования учебного процесса (учебные пособия, методические указания, методики препода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3:14:48Z</dcterms:created>
  <dc:creator>Мухамедзянова</dc:creator>
  <dc:description/>
  <dc:language>en-US</dc:language>
  <cp:lastModifiedBy>Наука</cp:lastModifiedBy>
  <dcterms:modified xsi:type="dcterms:W3CDTF">2009-03-27T07:06:17Z</dcterms:modified>
  <cp:revision>12</cp:revision>
  <dc:subject/>
  <dc:title>О себе (возраст, школа, ВУЗ, аспирантура  - специальность, докторантура - специальность)</dc:title>
</cp:coreProperties>
</file>