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9CFF-1036-40AD-98EE-CC65AAF8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74B1-6ABE-48CB-AAD8-7B6C616C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C55E-29AC-409B-930E-AD5232AA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1B9-DAC9-4E9E-8E0C-72D73D7E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A14-F0D9-4A1D-BE2D-0E53F990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8D3-6F56-44FC-A9D0-27DD9734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6400-B449-4C0F-9FD4-AA4E8B78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0BB-BD94-4650-9864-843C27FE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285-A036-4DE4-8D3C-177F999B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5109-E310-4EE4-9116-F2D63F40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06B3-F74A-4D4E-8691-8FF5D2B4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99C-F1F7-4981-816A-C2D18509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AE02-6FDC-44AA-8A1A-B3B5BFF3A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 обучения в аспирантуре (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значимые публикации в изданиях центральной печати, перечня ВАК ( в т.ч. за рубеж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и использование результатов научных разработок на территории края (акты о внедрении, патенты, лицензирование, коммерциализ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али и дипломы конференций,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руководство НИР студенто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е в инновационных конкурсах и прое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2:54:14Z</dcterms:created>
  <dc:creator>Мухамедзянова</dc:creator>
  <dc:description/>
  <dc:language>en-US</dc:language>
  <cp:lastModifiedBy>Наука</cp:lastModifiedBy>
  <dcterms:modified xsi:type="dcterms:W3CDTF">2009-03-27T07:01:57Z</dcterms:modified>
  <cp:revision>12</cp:revision>
  <dc:subject/>
  <dc:title>О себе (возраст, школа, ВУЗ, специальность)</dc:title>
</cp:coreProperties>
</file>